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929-74E5-4733-9F13-3FD4C274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983-3876-410D-B0B1-05221A05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07DC3-392C-4F2A-A0A1-400F03AD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AF306-040C-4DF8-AF02-57080C39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A6028-8485-4C84-9706-D74E6899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B7EF3-EC14-4844-9FC5-79FDAD81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D03B1-5DF0-4242-92A2-BB07101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1F783-7FBD-47D0-830A-67CB5D86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94F19-7E2D-48C0-9461-31AD5032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AAA0B-3E52-485F-9FC4-A880E7B7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FDFD8-B125-4483-8089-364CDD8F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58F86-6F9B-40BD-BDA4-8BEF2D3D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BA1-9F70-48CE-8693-AD4C2794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57950-D85B-48FA-A3F2-53C16E01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E503-8B1F-4FA7-98F4-E66B2FCE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E4EC2-7296-4072-BA20-CDF46F8A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2AAB4-028B-4EE8-9ACC-D0AD2E4A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D2AFC-F505-4D4F-AE7A-AEF2D564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C3676-2A75-4DEB-A01D-C2FEA502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0CD60-EF09-4A98-AFA5-FC88FF1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8D5A2-3AC1-43AE-8AED-95404E5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FC4C6-2920-45F2-8E2D-7D89CA22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31522-4F34-44F5-978A-C02D0536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4AE-CEF3-48F8-BA5A-93D24E7C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55C6D-6CA5-406D-A1D1-E8734A51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45E14-4AE1-4CEE-B45B-C9419842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C27F8-7BE3-4184-97CE-1DC070F2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3111C-7087-416D-8757-C37E833C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85B3A-F229-4415-B5F2-AE02C238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AF0D3-4B55-4688-8D0C-1C56014A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57F24-C1F2-4618-B78D-22354821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EA27A-1303-482C-83B4-5A7D53A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852E-B47C-4457-A4DE-7E85B56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1117A-E605-4DA1-9494-3E88530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FBC6-A16C-415E-A50A-A55910EF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6DBB3-4174-44E8-8E7A-BD04D0A9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4EF4D-CE1E-46AE-A76C-C0BA6A2A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AA7B5-4335-440C-9318-778EE59C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3EB2D-19B8-4F41-A4BC-74E11F4C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DAFEF-051C-41AD-B370-2BEB78E5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F5EA5-426F-425F-BBE5-0F64100D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F1902-CABD-443C-BEF5-30286643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82293-0F37-407B-A488-EF98894F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F638E-EB07-4902-B0DB-C04CFAD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879EF-4293-4178-B002-535412A1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4FBE-FB11-43D3-83C7-70615AC4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24C26-6ABD-4185-BCC6-B91E29C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B1383-3ABC-49D3-91DB-2A400655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CF09A-A1DB-40C0-B57B-37097583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93FEC-EDFE-4065-A525-BAFAD838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FE560-CD75-4D24-8E90-E4323BCE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E2771-5D6C-49E5-81F9-ABE37101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997DA-3E1F-45E6-A225-0E2FFBF0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23AA7-EDFE-429C-9091-29C406C2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5F488-F341-47EF-A17F-F45F6C41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211D3-53FF-4F9B-AAA7-C3AFA9D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626E-F3E0-4689-9272-6CE7C93D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9D310-CB71-4ADF-84A2-097773B4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636B7-3CD4-49ED-874D-0CA6561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2FDB9-519E-4295-A314-D9B878C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AC754-9609-48DA-B7F2-09BCBB1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ABBDF-93D8-4605-81CA-2F735B92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5E841-2B79-4DF2-9BB9-115E7709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7BAF8-119F-4AB9-83D5-0599A906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AF194-C7FD-426B-8C6E-BAA9A093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DFF66-36ED-4A14-A2B4-D9FBA019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FB29B-0226-4D92-BAB1-3B944D2F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F5CD-5CEE-4BB5-BA14-405D783E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7E7FD-326F-43C7-BCBB-237A8669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FBE28-D246-4054-9C9D-4A73C15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3DFF2-7A6A-4DC5-B0E5-772BCD22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05BE1-42D4-42F8-9627-BCB67BBC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EEA11-FEFE-43F3-842A-03EC37E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D2697-1EF8-42F0-8A17-FD3BA776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B85B6-25EE-4616-B532-F52BB9D6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2C955-9B77-4A81-8ADF-A4254672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2E895-C48D-41A4-9412-E94D9395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3FA9F-B426-4F21-893C-06C53AD2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ADD3-0200-4AF4-AF31-1BE303B6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E509D9-4C43-4F65-8D6C-9DD812BE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31A60-4174-4B08-B8A9-B7903FE0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E923F-48F8-4CB3-9369-4CD293DB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26D5E-85A4-4214-A0CF-E91687A6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B011E-11D1-45DD-B6CE-24BCA4EC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60354-7263-48B2-A371-BBB3B8EC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296D8-9A55-475D-88BF-F757E34F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77477-0AB2-4F42-B4D4-C60C390D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C5C0B-0246-48DB-A6CC-00033723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A09E1-46F9-42B7-B0E0-F82202B6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52DD-4B3A-4E6F-9F61-07DB3128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A32BBE-A013-4E85-A117-A5878154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AE56E-B072-4B11-B99A-6954F9CC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F7B1B-ED2B-4246-94C7-C3531D05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C1B51B-A42B-4C6A-AB7A-8D0B3A83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1F31B3-E090-40E6-9079-088EE3FD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AD3BF-5208-4EE1-8D2D-6D84544D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60710-B3E9-4168-81CB-3C0840F2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46550-1130-44AC-9C38-98AA8583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E006D-055B-47A4-A689-D0CA5DE7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DC727-6280-4403-B11A-222D3C52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D9EF-7F79-4A8F-898D-204DCE3E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91FF7-6D40-43A5-9788-AFC4D8C6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CC026-0DA6-478C-86CB-585B70F3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373AD-616B-40A6-A87F-E4F61DD6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A4F6F-4100-4D35-BAD9-5D7F83BA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92444-C40A-4F80-B012-777C61E9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22B41-D090-4CD0-A1EF-84C11292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BBE4F-0768-4B51-8303-D6146D52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7EC84-D84A-4D67-88D7-570325FC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80742-0FBD-43BB-94AC-A3B00F4E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A4E8F-DF5A-4E47-96FC-4EE2A4A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8E7-0218-48AB-A512-2C740342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BC10-2C3B-4125-8902-2D0BCA33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B119F-FC58-414E-9715-DB884EC6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8128F-FC84-464D-915F-150310E8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7FA3B-67C2-4656-AA26-14F019F4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52073-4021-47E0-950E-38FD5E91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58E76-87B7-4B17-A277-4BFB79C7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AE05D-0329-4A52-97B3-2B568D51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32BF6-E664-4869-974C-59887CA7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B4CCD-FC49-49E7-9802-46423843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BF8D8E-C161-4E65-8405-AAF37CE1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B3E56-E482-47BE-B6AE-5D032698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4D97-51AF-4B8F-917A-E77DED32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EF195-99B6-4F32-8676-89B945B4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0CE90-8421-452B-8A15-9186A173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85BB0-A603-479F-A105-9D57677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22E50-C80E-4BB6-8BE8-35E5E4EE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00969-64A1-4FDC-878C-8C8085A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CFE48-6072-47E8-AD61-C7B4986F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18188-D045-4241-9863-D2703303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E35BA3-8CC2-4D2E-A139-83635DC9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670414-8DF3-41D6-98AF-5F1C845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53803-207F-458A-B486-795B45FA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100F-BE9B-4359-B3CA-2A3EA85D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CB2FD-D8D6-4712-9925-9C70E593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432673-D6F6-43D9-BE88-D0EBE2A9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15763D-B7C0-42C7-B899-2F992B1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97C0C-93C3-4BF3-BF69-143B278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D2BF6-98DE-4BA5-9BCB-BD5CA2A1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9658A-E9A3-4822-BDB5-EE70DC50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A8131-7689-4A84-83B9-C37F4010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6C46BE-D78D-455B-92C4-6001FCB1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E5ED40-1F4B-491F-A8C6-1BBFDC9A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E0162-5478-4DAF-A9FB-9650325E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C6C1-9B43-422D-9B23-703E2F2E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3DB819-1A08-4C4D-818C-EC0F95D4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34C6AF-9FFF-48A9-9B71-87828255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ADEFE5-A7E9-433C-B68D-AD0F0B77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8E7CB2-9EFE-4C5A-A3E4-A2E0830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497607-6AB9-49E0-821D-B40A62D8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10B98-F9C7-42BF-9FEE-B9195790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63A58-4475-430A-BE34-C2FBDDF5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245A9F-4AE0-4520-8AF3-FBF1729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A23AA-731A-41C9-9A4B-2170DFF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94A662-73FB-4625-9C42-3D2DB54E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2FBA-F986-4D1A-8A64-96443AEC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1E4780-4504-4258-A1A7-621BB5D9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1374F-A126-488E-BEDB-6E9AB33E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5EFFE-DAB1-4CC1-8A21-6C8006D7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D26654-548F-43F2-A7EC-EED843C1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29FF53-68CD-43E3-A6DB-6F522B47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567DD2-1598-4A05-A37F-E112378F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FB9F5-AD16-4585-9F0E-F2233DB6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227CB-9FC9-485B-992D-2E7D97A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DBB9A3-6DBB-4AA9-80B0-C1A79E9E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78F53-147B-4D0B-9875-46B0DA8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95C4-6DDD-4B72-BA41-EF30EE6D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E7D57A-1E0C-4E7C-86C1-CB6DBB63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D29D9-D655-4D57-A21F-6028CE4E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8D516-E557-4D6B-BDF6-EC8EC755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194CF8-5041-4365-92A7-ECE7FB23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90169A-EBBC-45B7-8D98-96714C68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80F23B-95F5-470A-9087-ECC0B139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11406B-E53E-4965-A714-5C9CB2CA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61C6C8-F54E-42C1-BB2F-B6CD3348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2B0BE2-B524-4C23-B93E-DD30BBD8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B4BE6D-23ED-48E0-83FB-277DA1A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550F-E130-43EB-B041-9C51E240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A2149B-A5C9-454F-AA09-4A85D02B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C0FDAF-1689-436D-B993-C57BDFB1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C9488A-1184-4B50-A01D-270EB0EA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4CCA12-E7EE-4D35-A1C6-26888DD3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8B73DD-357C-44EA-BB00-F0541474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D9A5-C870-469B-A982-CBA6D048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F34F-CD68-414E-895B-7BE2149A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57C8-E051-41DD-96C9-4E98B8E8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A01-E74A-4F3D-9600-BD9D5195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157B-4FFC-467D-BC0B-35B50E0C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86F9-D52C-4A62-A7B9-468B230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8866C-7D8B-4FB2-8A13-1464AA6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FD8E-8BE9-4292-9C41-8B22E27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BB87-F754-475C-BEB8-CDE03679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B94D-ABFC-4981-9827-43489882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6EEE-D8DE-4999-A6F3-39D664A0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36993-90FA-4EB4-BD19-22FA45B9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8729-C7B9-4516-A2CA-507888E2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9A8D5-1FDC-43B5-9BFA-CC4BEC0D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0F8-D6CC-4DE7-A199-CADA1073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F74D-F642-4F33-BCF5-91335249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513F-EFDA-4C5C-B494-DE498CB8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3A2B-943E-47E3-B2FA-A91DFDB7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06D7-0267-4ED5-A85D-725AFE6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D511-01EE-4D50-8B99-7C080D8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ADFA-80B8-4B98-BFE3-A927519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0E35-21E3-43CD-B5DB-67AB4C9B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36C0-69E6-4D44-946B-0E7D84DA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0687-881A-4B85-B2DC-FEF7EE0F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E3E76-2D3F-4C86-B6E8-D06BA65E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30A-E1F3-41B2-B6C6-9003304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DB4DF-920D-4A9F-8823-F671FE85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DB6D-C304-43D9-A8D8-14B22B3A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EC203-BECA-46C6-A527-80BBAB40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A6D65-43AF-4383-9AD4-99EC40EE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273B-C20B-49CB-A936-4D995F74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786C5-55B2-4208-B857-BEEF9D6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C1D9-7009-436A-A836-BEA91245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90514-0526-4C1D-9037-6F01310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E1EEE-5516-40E0-A3DE-EDEC6616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614C-4FB3-45ED-9B92-83DD7A8E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208-FF1E-4A91-B353-1800821B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112C5-4704-499D-8D1A-E60F382E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BE266-5A99-414B-9ED9-03200719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2934-729F-44B6-911D-2FD864B8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2D51D-2C97-4A28-A0B3-DADB92DD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5F647-0E00-4E83-8C51-C6002D74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CFE0E-12BB-4900-AB15-5618301B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BEDD2-1F37-4004-82F6-B462B34C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11548-9B0A-4DDE-A9A9-1BC4E1F4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D35D1-3D97-4ED6-A385-2B25C85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AFAD3-FA1C-4328-B891-4FF77C4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FF5-2395-454A-AA8B-664E3AC3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6C98F-1CA5-4FAC-9DA9-BA8B7510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98649-0949-4ECC-80DF-0B530D90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7FDA7-A6BF-455B-8DED-C59B7D03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92046-DBF7-4286-A417-D8B45938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EE297-8FBC-4C66-B76C-6250133D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5B069-F986-4D51-B2A3-24761E48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6B777-B454-4676-B944-05BB6E9F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332B5-D88E-4193-84BA-DC37C8C1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14495-BE72-4D1C-8BFA-16949AAE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8649F-12ED-4907-A734-D3A86A16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21F-0100-46E0-94E8-3B25AA50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6F7EC-2E4E-477A-8379-C0982D59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B2EA8-A4AC-4E7C-A502-362B9E0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D9DF-B9BA-4207-A6A2-C47BE591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64769-440E-42C2-AB94-6B5405C7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6E77E-6665-4D6D-8BA6-DBE84908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A3B31-E0D2-4674-A764-455486A7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4C052-F385-4CCF-8C41-32F5437C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746B9-90EF-4A3D-8602-81D0E99B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A1B94-EBF5-4F6F-86E0-3E964348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55736-130D-4D51-8535-2DC0DC86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A27-B5B3-4A57-8985-F26494A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19EE-6AE7-4840-9773-5A07111C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B5291-31D8-4B1A-83AA-C69A774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C0B07-1580-4463-A828-CB98BE1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1F1F9-9CAB-4DD5-B60A-50BD01CE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9A3F5-8F40-4676-A1DE-22A20B55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369DC-ED48-40D9-A33A-BBCEBDEE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E6FFB-2B5B-43F9-AB9E-A13E4936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0BAF0-3509-4ECE-903F-B794646B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F5BE2-813D-44C4-94B0-B9664C39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05ED5-1A54-4F81-9EEC-6398A171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42B-902D-44A4-95CA-9229AE45FF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E973-8728-4AFB-B41B-FF79EB4E3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F44D-4822-43A1-AD93-C1B2832512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E965-40BD-4418-9207-D7A30B3BED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280D-9C17-4C21-A42A-59D24385ED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F9F7-D62A-4926-B4C6-0716B72E29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565E-F4F4-4F0E-96AF-3462A3F4EF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31D1-4B63-4056-8537-118C2A6893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C18A-63D6-483E-B55B-6F5942B69D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AE2B-0502-403A-B169-76E7D817EE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26E1-97DC-4732-BEBE-5189AE7BB3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841F-FD4D-4ABE-AEA1-E425C673E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2400-E3C9-4023-863F-982C67628B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2AD4-4809-4BD0-BDEA-8C5A388C20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219E-4A18-448F-8145-71A6928C53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058F-BBE4-44EF-A7FC-661B0F565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89AA-F6F1-4E7E-9702-E22FE56C16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527A-CE46-41CE-903C-3B1F50BC9E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3743-56A7-4573-A57B-55004E430C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9263-59E7-4401-A540-CE9A8A8359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C191-DA99-4A20-A60D-8071EA0E7A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09E-A5BE-4E5D-986B-64A77162B3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8AE8-E8C1-460E-8F7B-AB1F2451F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18BB-CCAC-4832-8BD7-7F09F92B71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2F13-CBAB-47F5-B1D9-90C9C9EA37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5DDA-2608-4413-AEF7-A16616B17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2DD9-EAD2-4F7F-A8A8-902DF5DD11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807E-0B51-402E-8F92-2D7C09651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AAED-9C96-47BB-B01E-A4B9910EEC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5FB6-D1DD-4B5B-BE58-09900F72B8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F74E-6446-47DA-ADBC-1ABD5AD387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3CE7-88C8-45FE-A06E-8F99D520E2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FD39-6F87-4AAC-97CD-4E584D277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E99B-8A4E-4689-9C76-25D12BA9B1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E560-FC93-4BE1-86E8-A783F18BD0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F3A4-1395-4281-B7F2-9471496EC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B0FE-6BD2-4247-A374-05DD3D84F7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2DEE-9CBB-43BE-93CE-18D647C0BA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8DEA-DD8E-4B64-8D45-5ED5A9D8E5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DC8D-A486-4D8A-B35E-6838B7DB86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3FBC-97B2-4674-A1A4-F0FEBD5BFC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481120" y="3019320"/>
            <a:ext cx="41817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223920" y="1386000"/>
            <a:ext cx="8696160" cy="408600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971640" cy="48600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147" descr=""/>
          <p:cNvPicPr/>
          <p:nvPr/>
        </p:nvPicPr>
        <p:blipFill>
          <a:blip r:embed="rId3"/>
          <a:stretch/>
        </p:blipFill>
        <p:spPr>
          <a:xfrm>
            <a:off x="4745160" y="3873600"/>
            <a:ext cx="971280" cy="48564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148" descr=""/>
          <p:cNvPicPr/>
          <p:nvPr/>
        </p:nvPicPr>
        <p:blipFill>
          <a:blip r:embed="rId4"/>
          <a:stretch/>
        </p:blipFill>
        <p:spPr>
          <a:xfrm>
            <a:off x="7596360" y="3859200"/>
            <a:ext cx="971280" cy="48564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149" descr=""/>
          <p:cNvPicPr/>
          <p:nvPr/>
        </p:nvPicPr>
        <p:blipFill>
          <a:blip r:embed="rId5"/>
          <a:stretch/>
        </p:blipFill>
        <p:spPr>
          <a:xfrm>
            <a:off x="914400" y="49546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6150" descr=""/>
          <p:cNvPicPr/>
          <p:nvPr/>
        </p:nvPicPr>
        <p:blipFill>
          <a:blip r:embed="rId6"/>
          <a:stretch/>
        </p:blipFill>
        <p:spPr>
          <a:xfrm>
            <a:off x="2728800" y="4968720"/>
            <a:ext cx="438120" cy="43848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151" descr=""/>
          <p:cNvPicPr/>
          <p:nvPr/>
        </p:nvPicPr>
        <p:blipFill>
          <a:blip r:embed="rId7"/>
          <a:stretch/>
        </p:blipFill>
        <p:spPr>
          <a:xfrm>
            <a:off x="4543560" y="49705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6152" descr=""/>
          <p:cNvPicPr/>
          <p:nvPr/>
        </p:nvPicPr>
        <p:blipFill>
          <a:blip r:embed="rId8"/>
          <a:stretch/>
        </p:blipFill>
        <p:spPr>
          <a:xfrm>
            <a:off x="6343560" y="4968720"/>
            <a:ext cx="438120" cy="43848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153" descr=""/>
          <p:cNvPicPr/>
          <p:nvPr/>
        </p:nvPicPr>
        <p:blipFill>
          <a:blip r:embed="rId9"/>
          <a:stretch/>
        </p:blipFill>
        <p:spPr>
          <a:xfrm>
            <a:off x="8158320" y="4983120"/>
            <a:ext cx="4381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169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57200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7170" descr=""/>
          <p:cNvPicPr/>
          <p:nvPr/>
        </p:nvPicPr>
        <p:blipFill>
          <a:blip r:embed="rId2"/>
          <a:stretch/>
        </p:blipFill>
        <p:spPr>
          <a:xfrm>
            <a:off x="4700520" y="311148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427640" y="2565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5508720" y="2565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6975360" y="25509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8056440" y="25509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8" name="图片 7175" descr=""/>
          <p:cNvPicPr/>
          <p:nvPr/>
        </p:nvPicPr>
        <p:blipFill>
          <a:blip r:embed="rId7"/>
          <a:stretch/>
        </p:blipFill>
        <p:spPr>
          <a:xfrm>
            <a:off x="7250040" y="3125880"/>
            <a:ext cx="1247760" cy="466560"/>
          </a:xfrm>
          <a:prstGeom prst="rect">
            <a:avLst/>
          </a:prstGeom>
          <a:ln w="0">
            <a:noFill/>
          </a:ln>
        </p:spPr>
      </p:pic>
      <p:pic>
        <p:nvPicPr>
          <p:cNvPr id="979" name="图片 7178" descr=""/>
          <p:cNvPicPr/>
          <p:nvPr/>
        </p:nvPicPr>
        <p:blipFill>
          <a:blip r:embed="rId8"/>
          <a:stretch/>
        </p:blipFill>
        <p:spPr>
          <a:xfrm>
            <a:off x="596880" y="4638600"/>
            <a:ext cx="1114560" cy="41904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7179" descr=""/>
          <p:cNvPicPr/>
          <p:nvPr/>
        </p:nvPicPr>
        <p:blipFill>
          <a:blip r:embed="rId9"/>
          <a:stretch/>
        </p:blipFill>
        <p:spPr>
          <a:xfrm>
            <a:off x="596880" y="5214960"/>
            <a:ext cx="1143000" cy="40968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7184" descr=""/>
          <p:cNvPicPr/>
          <p:nvPr/>
        </p:nvPicPr>
        <p:blipFill>
          <a:blip r:embed="rId10"/>
          <a:stretch/>
        </p:blipFill>
        <p:spPr>
          <a:xfrm>
            <a:off x="3421080" y="4637160"/>
            <a:ext cx="1114560" cy="41904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7185" descr=""/>
          <p:cNvPicPr/>
          <p:nvPr/>
        </p:nvPicPr>
        <p:blipFill>
          <a:blip r:embed="rId11"/>
          <a:stretch/>
        </p:blipFill>
        <p:spPr>
          <a:xfrm>
            <a:off x="3421080" y="5213520"/>
            <a:ext cx="1143000" cy="40932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7186" descr=""/>
          <p:cNvPicPr/>
          <p:nvPr/>
        </p:nvPicPr>
        <p:blipFill>
          <a:blip r:embed="rId12"/>
          <a:stretch/>
        </p:blipFill>
        <p:spPr>
          <a:xfrm>
            <a:off x="6257880" y="4637160"/>
            <a:ext cx="1114560" cy="41904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7187" descr=""/>
          <p:cNvPicPr/>
          <p:nvPr/>
        </p:nvPicPr>
        <p:blipFill>
          <a:blip r:embed="rId13"/>
          <a:stretch/>
        </p:blipFill>
        <p:spPr>
          <a:xfrm>
            <a:off x="6257880" y="5213520"/>
            <a:ext cx="114300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8193" descr=""/>
          <p:cNvPicPr/>
          <p:nvPr/>
        </p:nvPicPr>
        <p:blipFill>
          <a:blip r:embed="rId1"/>
          <a:stretch/>
        </p:blipFill>
        <p:spPr>
          <a:xfrm>
            <a:off x="614520" y="1604880"/>
            <a:ext cx="7914960" cy="364824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8194" descr=""/>
          <p:cNvPicPr/>
          <p:nvPr/>
        </p:nvPicPr>
        <p:blipFill>
          <a:blip r:embed="rId2"/>
          <a:stretch/>
        </p:blipFill>
        <p:spPr>
          <a:xfrm>
            <a:off x="3448080" y="4206960"/>
            <a:ext cx="1714320" cy="39060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8195" descr=""/>
          <p:cNvPicPr/>
          <p:nvPr/>
        </p:nvPicPr>
        <p:blipFill>
          <a:blip r:embed="rId3"/>
          <a:stretch/>
        </p:blipFill>
        <p:spPr>
          <a:xfrm>
            <a:off x="3390840" y="4667400"/>
            <a:ext cx="1752840" cy="44748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8196" descr=""/>
          <p:cNvPicPr/>
          <p:nvPr/>
        </p:nvPicPr>
        <p:blipFill>
          <a:blip r:embed="rId4"/>
          <a:stretch/>
        </p:blipFill>
        <p:spPr>
          <a:xfrm>
            <a:off x="5594400" y="4148280"/>
            <a:ext cx="1247760" cy="4665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5"/>
          <a:stretch/>
        </p:blipFill>
        <p:spPr>
          <a:xfrm>
            <a:off x="6891480" y="4768920"/>
            <a:ext cx="1712880" cy="31896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8198" descr=""/>
          <p:cNvPicPr/>
          <p:nvPr/>
        </p:nvPicPr>
        <p:blipFill>
          <a:blip r:embed="rId6"/>
          <a:stretch/>
        </p:blipFill>
        <p:spPr>
          <a:xfrm>
            <a:off x="5549760" y="4708440"/>
            <a:ext cx="1247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2:56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